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camera.wav" ContentType="audio/x-wav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71F-E990-475B-AC49-4F434B43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B7E-314A-4811-8065-95CD4DB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42C-AC39-4552-91F6-BCBAD221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6B1-77FB-4718-983F-40F417BF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D9C-10C1-498C-827D-71084BCD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F8B-7467-49A6-A9BF-93883E26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8FA-6B0A-4348-935B-1BA894E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761-C16C-4AE2-8A61-AB8D482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342-7566-4A75-80E5-4B18DC2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C21-15E8-44FB-8F47-CA244AE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E51-C1AE-42CC-9D6C-FCAA0112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BCC-FFB9-41CD-AB4E-9C8B8411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EFF9-0B2C-49A7-92D7-AD33CBCE466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1"/>
          <p:cNvSpPr/>
          <p:nvPr/>
        </p:nvSpPr>
        <p:spPr>
          <a:xfrm>
            <a:off x="7772400" y="6400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Monotype Corsiva"/>
              </a:rPr>
              <a:t>09.10.02 by JML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September 11, 2001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Never Forget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15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27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1039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apositivo1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iapositivo1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positivo1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iapositivo2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iapositivo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positivo2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iapositivo2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iapositiv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positivo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positivo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iapositivo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positivo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positivo5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iapositivo7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positivo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iapositivo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iapositivo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positivo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Diapositiv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positivo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positiv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iapositivo16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positivo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iapositivo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iapositiv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iapositivo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Diapositiv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iapositivo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iapositivo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iapositivo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iapositivo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iapositivo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iapositivo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iapositivo11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iapositivo12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iapositivo1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Diapositivo14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apositiv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iapositivo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iapositivo16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iapositivo1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iapositivo18A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iapositivo1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iapositivo23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apositivo24A"/>
          <p:cNvPicPr/>
          <p:nvPr/>
        </p:nvPicPr>
        <p:blipFill>
          <a:blip r:embed="rId1"/>
          <a:stretch/>
        </p:blipFill>
        <p:spPr>
          <a:xfrm>
            <a:off x="1133640" y="0"/>
            <a:ext cx="6876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iapositivo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Please pass this on so WE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Never Forget the day that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changed ALL of our lives!</a:t>
            </a: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27" descr="Diapositiv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iapositivo6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9" descr="Diapositivo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6" descr="Diapositivo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Frank A. Nicoletti</cp:lastModifiedBy>
  <dcterms:modified xsi:type="dcterms:W3CDTF">2008-01-27T13:32:58Z</dcterms:modified>
  <cp:revision>50</cp:revision>
  <dc:subject/>
  <dc:title>Mots d’enfants</dc:title>
</cp:coreProperties>
</file>